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24291"/>
        <c:axId val="32012475"/>
      </c:barChart>
      <c:catAx>
        <c:axId val="69324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2475"/>
        <c:crosses val="autoZero"/>
        <c:auto val="1"/>
        <c:lblAlgn val="ctr"/>
        <c:lblOffset val="100"/>
        <c:noMultiLvlLbl val="0"/>
      </c:catAx>
      <c:valAx>
        <c:axId val="32012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24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9BC-E748-4040-B350-7E78C08A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57C-97F2-4AB1-8F55-D7BB7BFD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6AE-FB40-4D3E-A0CF-3965EB8C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149-BB1A-4B1A-9FA3-BC1111F3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E66-2659-4738-9A6B-39E46FAB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C67-E012-416F-B2C8-8B977058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052-CB7D-4BD6-8C0A-E81D1F57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FF2-DE89-485F-8B18-FC922358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B26-1C4B-4AAE-83AF-513E3D75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C26-7FA9-45E4-A885-10EE044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A87-5CB4-4A17-B172-FDF3346B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EF7-E883-4A52-9628-BA21770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FB14B-899C-4311-B56D-7674F1C13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