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42459"/>
        <c:axId val="61842872"/>
      </c:barChart>
      <c:catAx>
        <c:axId val="574424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42872"/>
        <c:crosses val="autoZero"/>
        <c:auto val="1"/>
        <c:lblAlgn val="ctr"/>
        <c:lblOffset val="100"/>
        <c:noMultiLvlLbl val="0"/>
      </c:catAx>
      <c:valAx>
        <c:axId val="618428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424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F90-3364-4C75-8A8E-3D39B1BC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D3B6-32A8-4F5A-95E9-10B9B836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5070-FE13-4BCC-8F2C-4481233F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7118-946D-4D87-8B11-1634C976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FBA1-A745-49CC-9C7E-1772FCB4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EEAF-6A30-445F-B351-503083DB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2F41-670F-429D-B2E9-B8386902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EBD0-9833-4586-8542-9FEB6DFB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723-7693-46DC-837F-236F317D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3907-920B-436F-B4B2-F2F7A598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59E4-F9B1-4185-A958-A9CBCD28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762F-2690-4108-8C35-0F6627B8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09AB4-719F-405B-8EE5-2AB3360E3B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