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92928"/>
        <c:axId val="34572411"/>
      </c:barChart>
      <c:catAx>
        <c:axId val="61392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72411"/>
        <c:crosses val="autoZero"/>
        <c:auto val="1"/>
        <c:lblAlgn val="ctr"/>
        <c:lblOffset val="100"/>
        <c:noMultiLvlLbl val="0"/>
      </c:catAx>
      <c:valAx>
        <c:axId val="34572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92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6B2-60DE-464A-A8EB-E069D4DB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4DB-7D33-4ED4-A987-51F48F7D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238-9AD3-4A44-9F0B-BD9E4698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D86-68BD-4F5F-87EB-5360D590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F43-7269-4927-9CF2-BD95B8A2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0C0-D9A5-4131-B2EF-69536DAF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A06-4FDA-4DA4-9B32-A556613F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E37-F2D8-4470-B84B-48DBBF11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169-C05E-4305-9A46-9CAE4020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929-3B5A-4115-BF95-0748585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D15-2183-4B64-AC81-F1FE1207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FCD-3CBC-4D94-9B9A-CCFABFA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E9113-5EC7-433B-A9B0-DAF4FE8C5E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