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037058"/>
        <c:axId val="93351625"/>
      </c:barChart>
      <c:catAx>
        <c:axId val="510370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51625"/>
        <c:crosses val="autoZero"/>
        <c:auto val="1"/>
        <c:lblAlgn val="ctr"/>
        <c:lblOffset val="100"/>
        <c:noMultiLvlLbl val="0"/>
      </c:catAx>
      <c:valAx>
        <c:axId val="933516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0370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5FAE-4C42-4E09-B776-C873D87F7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CF45-97B2-4ECB-85F1-45443A5E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6FEC-D58F-4299-BB76-2F2182ECF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5CC4-F0F0-44CC-A02F-05EC0C94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DCE7-7F10-4156-8F81-557948AC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078B-51E6-4791-B991-AC9E8EFF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CC22-D2F7-4F2C-A6F4-6D58A20C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50B1-5EE6-438D-A66C-ECC42384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57A6-76F5-4BB6-8786-3A675645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C0F7-B252-4706-9157-79388A82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F641-BAA3-46A9-B1EA-1AB1DC8A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14ED-9DD8-4894-8B95-30DAF73F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67FA9-A3F2-4183-A272-4E83122AC2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