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11517"/>
        <c:axId val="39949119"/>
      </c:barChart>
      <c:catAx>
        <c:axId val="46511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49119"/>
        <c:crosses val="autoZero"/>
        <c:auto val="1"/>
        <c:lblAlgn val="ctr"/>
        <c:lblOffset val="100"/>
        <c:noMultiLvlLbl val="0"/>
      </c:catAx>
      <c:valAx>
        <c:axId val="39949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11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72B-1FBE-40BF-AA29-8DCFF809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14C-B5D0-48C8-A405-63CBC91C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F6A-5EB4-4F5D-A9BC-85124AC6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E5F-2578-4DB2-9868-FA1F4940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E2F-675F-446A-95DA-7DBD1224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81B-FA51-46BF-B402-9FC0E2C5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27E-FB3E-4358-B2A8-897E2C59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BFF-6A0A-4F6A-960F-3C930B51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478-E835-4387-95D9-E41DC2EC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BFE-4760-4C6F-AFF6-AA7407F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1B6-A2E7-4680-A2B1-CEAE2D1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E41-067A-429F-94C1-02A5BDEB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D7422-FFDC-4D6D-AF11-FD317D9B64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