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08989"/>
        <c:axId val="56180483"/>
      </c:barChart>
      <c:catAx>
        <c:axId val="41308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80483"/>
        <c:crosses val="autoZero"/>
        <c:auto val="1"/>
        <c:lblAlgn val="ctr"/>
        <c:lblOffset val="100"/>
        <c:noMultiLvlLbl val="0"/>
      </c:catAx>
      <c:valAx>
        <c:axId val="56180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08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D8F-DC91-4E50-9BD0-8B57723B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09A-4506-4C86-BEDF-7F18EEB5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03D-6842-4828-8971-35ECEE43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C08-91CD-48D2-819D-AFD4A772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78B-C1C5-49D8-BD05-1B34697B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4F2-6B01-4656-9B03-E3CC0A06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DB6-7EE9-4279-82B9-11D8071E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0B7-FD6C-4839-AF29-553C5B4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540-5804-4357-AAF9-208B7BB5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752-5FC7-44ED-91AC-52FB9B05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161-37E7-4B70-B5BD-E5479FDD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08B-4660-4DDF-9768-7BC7489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46315-BCD5-49E2-A0FB-2FF780149F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