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14891"/>
        <c:axId val="62728854"/>
      </c:barChart>
      <c:catAx>
        <c:axId val="44914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28854"/>
        <c:crosses val="autoZero"/>
        <c:auto val="1"/>
        <c:lblAlgn val="ctr"/>
        <c:lblOffset val="100"/>
        <c:noMultiLvlLbl val="0"/>
      </c:catAx>
      <c:valAx>
        <c:axId val="627288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14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04A-ADE0-4FF8-81CB-0CBEC209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323-9532-4421-9646-879F1245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541-F65B-4843-A381-177E7C82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A32-E088-4CA7-B309-12C32D24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7A9-3ABF-45CD-A74F-7A562FEF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3B0-D634-40DC-9BB4-E26B1F6B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24A-0052-427F-977D-4D3B5D94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D8C-F989-4093-8953-BB866748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523-97BF-4D17-9D4E-01E1E364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ED1-B57E-4C2D-A2CB-7F793A3A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3DC-D64F-4A0A-AC77-87C69735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A1F-6336-44FC-B53A-EE74C284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87B5C-FF1B-43FF-8211-653BD618DA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