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728683"/>
        <c:axId val="16625584"/>
      </c:barChart>
      <c:catAx>
        <c:axId val="147286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625584"/>
        <c:crosses val="autoZero"/>
        <c:auto val="1"/>
        <c:lblAlgn val="ctr"/>
        <c:lblOffset val="100"/>
        <c:noMultiLvlLbl val="0"/>
      </c:catAx>
      <c:valAx>
        <c:axId val="166255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7286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EAC6-D518-4E89-A12D-1BF887CB7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F49D-1CFD-41BF-AC46-CFDF2455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3DB6-4A3D-4C57-80A1-2AB12E3E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546-E100-4001-A3C9-4232474E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B329-EC70-4675-81B7-546C0316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2EE0-640F-499E-BA44-A4884119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BE0B-D161-4FDA-B045-ED2F11CB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4645-D47C-436B-A518-1F7E6DDB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10AD-3B48-45A7-9BCA-80813395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B66E-EF88-403A-8D1A-6153B3A8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02BF-80C0-4BD8-96E0-97DC37FC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7C04-A7CF-47FC-A19F-24422846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44B12-1D91-4814-8F60-F08813B525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